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F8C-9E2A-472D-8F17-5573BF4D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FF0-33FC-4D39-850B-1EB60A23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0B7-1AEB-4432-8689-D9A720BE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D8A-60DD-4B10-BC80-6AAE3D29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A599-26C1-478E-AC40-BDF8EDE4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D2FE-ADA9-49E9-8F42-4FF66918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E957-683A-4AE1-8A15-74820E0A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F64B-A53D-489E-B8CF-144453ED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8D00-CFFE-47CB-8F02-114795FC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C777-AF80-4F5A-B085-E0596D46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B6C2-7492-47A8-9A11-41915CD6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78C-4C18-4ED7-AA82-E6A0FD45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B181-8A45-403A-B342-89CA0E0A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27EF-E41B-4F7D-87DE-20A3812A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340C-184C-4E80-BC1D-DFF089BE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572B-2DA0-4036-B446-501212BD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2217-A097-48AA-B490-6C62AFC9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DE6-EF7D-4261-90B2-09288913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60C-6B2A-4036-83C7-40963495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B9A-FD72-4FD7-97A6-84F7AB7A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F0B-4770-473F-A6B0-DC7E897E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D37-E08F-499E-AF84-2C09E5D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EDA-4A15-458B-BA79-715FAA5C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EF4-2403-4B8B-A1FD-6A242F9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C815-543F-42E8-A3EB-A2A5205C8796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D968-3B79-4AB1-9F04-C233A7049B6C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4f261e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4f261e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261e"/>
                </a:solidFill>
                <a:latin typeface="Garamond"/>
              </a:rPr>
              <a:t>Letter Writing Unit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Unit Portfolio Presentation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Jolene Porter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What is a Letter?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A means for people to communicate via the mail or internet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What are the parts of a letter?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61e"/>
                </a:solidFill>
                <a:latin typeface="Garamond"/>
              </a:rPr>
              <a:t>Heading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Date the letter is being written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Person’s Name &amp; Title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Company Name 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Address 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City, State Zip Code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61e"/>
                </a:solidFill>
                <a:latin typeface="Garamond"/>
              </a:rPr>
              <a:t>Salutation &amp; Letter Body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Dear – To – Attention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Two paragraphs to explain the reason for writing the letter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61e"/>
                </a:solidFill>
                <a:latin typeface="Garamond"/>
              </a:rPr>
              <a:t>Closing</a:t>
            </a:r>
            <a:br>
              <a:rPr sz="24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Sincerely – Fondly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ignature of person sending the letter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Let’s Get Started….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Open a new Word Documen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nter to position 2.5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ype in the date line:  Month, Day and Year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Eldred Central School</cp:lastModifiedBy>
  <dcterms:modified xsi:type="dcterms:W3CDTF">2010-07-08T14:44:53Z</dcterms:modified>
  <cp:revision>18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